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5275-071C-433B-B458-26B855D4D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D157-3BB0-4FB2-AE1D-68EECE56F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77D5-2967-45AA-9987-4C702962A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9997-D73A-425A-91BC-38AF8A3D8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0B29F-3B9F-417C-A4E9-DB55014D0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DF5B1-2275-4A32-BFC7-A0DB57F57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ADEC1-BBEB-4A6D-AB69-024113A9F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36AF9-3D27-42A4-ABDF-0BFB1491D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D01C0-8EE0-49BC-9830-A2E482C3A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4D71B-148F-45F0-82B7-0177CE3BA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142FB-C9AD-472F-9AAF-585A25C2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F692-370D-41BA-A8C5-79F852EFB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B9D9B-1EA2-4F2A-A89E-0866C20E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678B9-9F35-44CA-8C50-3B22F1DCB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59903-83D2-4D84-8194-7EAD8C433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01523-4E82-4074-9889-5922AC7B9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B9A7E-7941-4309-B2EE-76264FEAC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DE17-11BC-42C7-A0AA-192BFDFB7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1080-13D2-4B15-8BEB-E18814E3B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9913-2649-41D8-BD6B-53FDB16B7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8839-84AA-436E-8757-83AEC6579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E316-573A-42B2-9571-8016FC32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02F8-0553-4556-995B-4726E632C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3A68-0984-4084-95B4-056AA352B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E297B-4ED1-44D6-98D9-34E5BA1D0140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534C9-97D9-4C16-B53B-9454AC1C9E96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anecook@earthlink.net" TargetMode="External"/><Relationship Id="rId2" Type="http://schemas.openxmlformats.org/officeDocument/2006/relationships/hyperlink" Target="mailto:mcrowley@eastconn.org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ncrel.org/sdrs/areas/issues/students/learning/lr1kwlh.htm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Writing Grants That Get Result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352680"/>
            <a:ext cx="5640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Presented by Jane Cook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EASTCONN Staff Development Specialist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Phone:  860-455-0707, ext. 3011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E-mail:  </a:t>
            </a:r>
            <a:r>
              <a:rPr b="0" lang="en-US" sz="1800" spc="-1" strike="noStrike" u="sng">
                <a:solidFill>
                  <a:srgbClr val="f0b854"/>
                </a:solidFill>
                <a:uFillTx/>
                <a:latin typeface="Arial"/>
                <a:hlinkClick r:id="rId1"/>
              </a:rPr>
              <a:t>janecook@earthlink.net</a:t>
            </a:r>
            <a:r>
              <a:rPr b="0" lang="en-US" sz="1800" spc="-1" strike="noStrike" u="sng">
                <a:solidFill>
                  <a:srgbClr val="2f1311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and Maureen Crowley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EASCONN Director of Planning &amp; Development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Phone:  860-455-0707, ext. 3311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E-mail:  </a:t>
            </a:r>
            <a:r>
              <a:rPr b="0" lang="en-US" sz="1800" spc="-1" strike="noStrike" u="sng">
                <a:solidFill>
                  <a:srgbClr val="f0b854"/>
                </a:solidFill>
                <a:uFillTx/>
                <a:latin typeface="Arial"/>
                <a:hlinkClick r:id="rId2"/>
              </a:rPr>
              <a:t>mcrowley@eastconn.org</a:t>
            </a:r>
            <a:r>
              <a:rPr b="0" lang="en-US" sz="1800" spc="-1" strike="noStrike" u="sng">
                <a:solidFill>
                  <a:srgbClr val="2f1311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d47d"/>
                </a:solidFill>
                <a:latin typeface="Arial"/>
              </a:rPr>
              <a:t>Thinking Like a Grant Reader: </a:t>
            </a:r>
            <a:br>
              <a:rPr sz="2800"/>
            </a:br>
            <a:r>
              <a:rPr b="1" lang="en-US" sz="2800" spc="-1" strike="noStrike">
                <a:solidFill>
                  <a:srgbClr val="f7d47d"/>
                </a:solidFill>
                <a:latin typeface="Arial"/>
              </a:rPr>
              <a:t>Questions to Ask Before Submitting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f1311"/>
                </a:solidFill>
                <a:latin typeface="Arial"/>
              </a:rPr>
              <a:t>Before Copying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Have I filled out the </a:t>
            </a: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cover sheet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and gotten the required </a:t>
            </a: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signatures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Have I completed </a:t>
            </a: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all required sections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?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Is my writing </a:t>
            </a: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clear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concise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with </a:t>
            </a: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no spelling or grammar errors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?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Have I </a:t>
            </a: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numbered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all of the </a:t>
            </a: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pages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?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Have I stayed within the </a:t>
            </a: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page limit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requirements?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Have I </a:t>
            </a: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reviewed the rubric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(or checklist) to make sure that I have </a:t>
            </a: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met all of the requirements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and to receive a highest possible score for each section?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Have I included </a:t>
            </a: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all assurances 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with appropriate</a:t>
            </a: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 signatures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?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Have I included </a:t>
            </a: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partnership agreements 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or</a:t>
            </a: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 letters of support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, if required?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Are the </a:t>
            </a: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Appendices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allowed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necessary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self-explanatory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d47d"/>
                </a:solidFill>
                <a:latin typeface="Arial"/>
              </a:rPr>
              <a:t>Thinking Like a Grant Reader: </a:t>
            </a:r>
            <a:br>
              <a:rPr sz="2800"/>
            </a:br>
            <a:r>
              <a:rPr b="1" lang="en-US" sz="2800" spc="-1" strike="noStrike">
                <a:solidFill>
                  <a:srgbClr val="f7d47d"/>
                </a:solidFill>
                <a:latin typeface="Arial"/>
              </a:rPr>
              <a:t>Questions to Ask Before Submitting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f1311"/>
                </a:solidFill>
                <a:latin typeface="Arial"/>
              </a:rPr>
              <a:t>Before Mailing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Have I included the 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original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proposal signed with 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blue ink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Have I included the 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required number of copies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?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0" y="688680"/>
            <a:ext cx="8384400" cy="5902200"/>
            <a:chOff x="0" y="688680"/>
            <a:chExt cx="8384400" cy="5902200"/>
          </a:xfrm>
        </p:grpSpPr>
        <p:grpSp>
          <p:nvGrpSpPr>
            <p:cNvPr id="216" name=""/>
            <p:cNvGrpSpPr/>
            <p:nvPr/>
          </p:nvGrpSpPr>
          <p:grpSpPr>
            <a:xfrm>
              <a:off x="3931200" y="688680"/>
              <a:ext cx="4453200" cy="5768640"/>
              <a:chOff x="3931200" y="688680"/>
              <a:chExt cx="4453200" cy="5768640"/>
            </a:xfrm>
          </p:grpSpPr>
          <p:sp>
            <p:nvSpPr>
              <p:cNvPr id="217" name=""/>
              <p:cNvSpPr/>
              <p:nvPr/>
            </p:nvSpPr>
            <p:spPr>
              <a:xfrm>
                <a:off x="3986640" y="3417120"/>
                <a:ext cx="940320" cy="441000"/>
              </a:xfrm>
              <a:prstGeom prst="flowChartProcess">
                <a:avLst/>
              </a:prstGeom>
              <a:solidFill>
                <a:srgbClr val="fff2b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3160" rIns="83160" tIns="41760" bIns="417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Write grant proposal</a:t>
                </a:r>
                <a:endParaRPr b="0" lang="en-US" sz="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994920" y="4184280"/>
                <a:ext cx="939600" cy="441000"/>
              </a:xfrm>
              <a:prstGeom prst="flowChartProcess">
                <a:avLst/>
              </a:prstGeom>
              <a:solidFill>
                <a:srgbClr val="fff2b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3160" rIns="83160" tIns="41760" bIns="417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Secure appropriate signatures</a:t>
                </a:r>
                <a:endParaRPr b="0" lang="en-US" sz="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070040" y="2193480"/>
                <a:ext cx="1314360" cy="925920"/>
              </a:xfrm>
              <a:prstGeom prst="flowChartProcess">
                <a:avLst/>
              </a:prstGeom>
              <a:solidFill>
                <a:srgbClr val="ffcccc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3160" rIns="83160" tIns="41760" bIns="417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Start a list of possible funding sources with their deadlines that you can use in the future</a:t>
                </a:r>
                <a:endParaRPr b="0" lang="en-US" sz="1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220" name=""/>
              <p:cNvGrpSpPr/>
              <p:nvPr/>
            </p:nvGrpSpPr>
            <p:grpSpPr>
              <a:xfrm>
                <a:off x="3947400" y="2078640"/>
                <a:ext cx="2604600" cy="1338120"/>
                <a:chOff x="3947400" y="2078640"/>
                <a:chExt cx="2604600" cy="133812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5540760" y="2404800"/>
                  <a:ext cx="1011240" cy="431280"/>
                </a:xfrm>
                <a:prstGeom prst="flowChartProcess">
                  <a:avLst/>
                </a:prstGeom>
                <a:solidFill>
                  <a:srgbClr val="fff2b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3160" rIns="83160" tIns="41760" bIns="417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Tahoma"/>
                    </a:rPr>
                    <a:t>Research a new funding source</a:t>
                  </a:r>
                  <a:endParaRPr b="0" lang="en-US" sz="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3947400" y="2078640"/>
                  <a:ext cx="1019880" cy="1082880"/>
                </a:xfrm>
                <a:prstGeom prst="flowChartDecision">
                  <a:avLst/>
                </a:prstGeom>
                <a:solidFill>
                  <a:srgbClr val="cee1f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3160" rIns="83160" tIns="41760" bIns="417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Tahoma"/>
                    </a:rPr>
                    <a:t>Can I meet the deadline?</a:t>
                  </a:r>
                  <a:endParaRPr b="0" lang="en-US" sz="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cxnSp>
              <p:nvCxnSpPr>
                <p:cNvPr id="223" name=""/>
                <p:cNvCxnSpPr/>
                <p:nvPr/>
              </p:nvCxnSpPr>
              <p:spPr>
                <a:xfrm>
                  <a:off x="4966920" y="2624400"/>
                  <a:ext cx="57384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224" name=""/>
                <p:cNvCxnSpPr/>
                <p:nvPr/>
              </p:nvCxnSpPr>
              <p:spPr>
                <a:xfrm>
                  <a:off x="4456440" y="3161160"/>
                  <a:ext cx="1080" cy="25596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</p:grpSp>
          <p:cxnSp>
            <p:nvCxnSpPr>
              <p:cNvPr id="225" name=""/>
              <p:cNvCxnSpPr/>
              <p:nvPr/>
            </p:nvCxnSpPr>
            <p:spPr>
              <a:xfrm>
                <a:off x="4456440" y="3858120"/>
                <a:ext cx="7920" cy="3268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26" name=""/>
              <p:cNvCxnSpPr/>
              <p:nvPr/>
            </p:nvCxnSpPr>
            <p:spPr>
              <a:xfrm>
                <a:off x="4464000" y="4624920"/>
                <a:ext cx="1080" cy="4582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grpSp>
            <p:nvGrpSpPr>
              <p:cNvPr id="227" name=""/>
              <p:cNvGrpSpPr/>
              <p:nvPr/>
            </p:nvGrpSpPr>
            <p:grpSpPr>
              <a:xfrm>
                <a:off x="3931200" y="721080"/>
                <a:ext cx="2604600" cy="1083600"/>
                <a:chOff x="3931200" y="721080"/>
                <a:chExt cx="2604600" cy="108360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5524560" y="1047240"/>
                  <a:ext cx="1011240" cy="431280"/>
                </a:xfrm>
                <a:prstGeom prst="flowChartProcess">
                  <a:avLst/>
                </a:prstGeom>
                <a:solidFill>
                  <a:srgbClr val="fff2b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3160" rIns="83160" tIns="41760" bIns="417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Tahoma"/>
                    </a:rPr>
                    <a:t>Research a new funding source</a:t>
                  </a:r>
                  <a:endParaRPr b="0" lang="en-US" sz="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3931200" y="721080"/>
                  <a:ext cx="1019880" cy="1083600"/>
                </a:xfrm>
                <a:prstGeom prst="flowChartDecision">
                  <a:avLst/>
                </a:prstGeom>
                <a:solidFill>
                  <a:srgbClr val="cee1f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3160" rIns="83160" tIns="41760" bIns="417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Tahoma"/>
                    </a:rPr>
                    <a:t>Am I likely to receive funding?</a:t>
                  </a:r>
                  <a:endParaRPr b="0" lang="en-US" sz="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cxnSp>
              <p:nvCxnSpPr>
                <p:cNvPr id="230" name=""/>
                <p:cNvCxnSpPr/>
                <p:nvPr/>
              </p:nvCxnSpPr>
              <p:spPr>
                <a:xfrm>
                  <a:off x="4950720" y="1266480"/>
                  <a:ext cx="57384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</p:grpSp>
          <p:sp>
            <p:nvSpPr>
              <p:cNvPr id="231" name=""/>
              <p:cNvSpPr/>
              <p:nvPr/>
            </p:nvSpPr>
            <p:spPr>
              <a:xfrm>
                <a:off x="3994920" y="5083200"/>
                <a:ext cx="939600" cy="441000"/>
              </a:xfrm>
              <a:prstGeom prst="flowChartProcess">
                <a:avLst/>
              </a:prstGeom>
              <a:solidFill>
                <a:srgbClr val="fff2b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3160" rIns="83160" tIns="41760" bIns="417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Make required copies</a:t>
                </a:r>
                <a:endParaRPr b="0" lang="en-US" sz="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931200" y="5901840"/>
                <a:ext cx="1075320" cy="555480"/>
              </a:xfrm>
              <a:prstGeom prst="flowChartPredefinedProcess">
                <a:avLst/>
              </a:prstGeom>
              <a:solidFill>
                <a:srgbClr val="d5eb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3160" rIns="83160" tIns="41760" bIns="417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Submit grant proposal</a:t>
                </a:r>
                <a:endParaRPr b="0" lang="en-US" sz="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cxnSp>
            <p:nvCxnSpPr>
              <p:cNvPr id="233" name=""/>
              <p:cNvCxnSpPr/>
              <p:nvPr/>
            </p:nvCxnSpPr>
            <p:spPr>
              <a:xfrm flipH="1">
                <a:off x="4456440" y="5523840"/>
                <a:ext cx="7920" cy="37836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34" name=""/>
              <p:cNvCxnSpPr/>
              <p:nvPr/>
            </p:nvCxnSpPr>
            <p:spPr>
              <a:xfrm>
                <a:off x="4453560" y="1730520"/>
                <a:ext cx="7920" cy="3268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35" name=""/>
              <p:cNvSpPr/>
              <p:nvPr/>
            </p:nvSpPr>
            <p:spPr>
              <a:xfrm>
                <a:off x="3931200" y="688680"/>
                <a:ext cx="418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Yes</a:t>
                </a:r>
                <a:endParaRPr b="0" lang="en-US" sz="1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931200" y="1962000"/>
                <a:ext cx="418320" cy="26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Yes</a:t>
                </a:r>
                <a:endParaRPr b="0" lang="en-US" sz="1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931200" y="3119400"/>
                <a:ext cx="418320" cy="26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Yes</a:t>
                </a:r>
                <a:endParaRPr b="0" lang="en-US" sz="1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872600" y="1035720"/>
                <a:ext cx="330480" cy="241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o</a:t>
                </a:r>
                <a:endParaRPr b="0" lang="en-US" sz="1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872600" y="2309040"/>
                <a:ext cx="330480" cy="24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o</a:t>
                </a:r>
                <a:endParaRPr b="0" lang="en-US" sz="1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070040" y="2193480"/>
                <a:ext cx="104040" cy="925920"/>
              </a:xfrm>
              <a:custGeom>
                <a:avLst/>
                <a:gdLst>
                  <a:gd name="textAreaLeft" fmla="*/ 30600 w 104040"/>
                  <a:gd name="textAreaRight" fmla="*/ 104400 w 104040"/>
                  <a:gd name="textAreaTop" fmla="*/ 38520 h 925920"/>
                  <a:gd name="textAreaBottom" fmla="*/ 887400 h 925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900"/>
                      <a:pt x="0" y="1800"/>
                    </a:cubicBezTo>
                    <a:lnTo>
                      <a:pt x="0" y="19800"/>
                    </a:lnTo>
                    <a:cubicBezTo>
                      <a:pt x="0" y="20700"/>
                      <a:pt x="10800" y="21600"/>
                      <a:pt x="21600" y="21600"/>
                    </a:cubicBezTo>
                  </a:path>
                </a:pathLst>
              </a:custGeom>
              <a:solidFill>
                <a:srgbClr val="ffcc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cxnSp>
            <p:nvCxnSpPr>
              <p:cNvPr id="241" name=""/>
              <p:cNvCxnSpPr/>
              <p:nvPr/>
            </p:nvCxnSpPr>
            <p:spPr>
              <a:xfrm>
                <a:off x="6550920" y="2631600"/>
                <a:ext cx="511560" cy="1332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sp>
            <p:nvSpPr>
              <p:cNvPr id="242" name=""/>
              <p:cNvSpPr/>
              <p:nvPr/>
            </p:nvSpPr>
            <p:spPr>
              <a:xfrm>
                <a:off x="5604480" y="5086080"/>
                <a:ext cx="1020960" cy="546840"/>
              </a:xfrm>
              <a:prstGeom prst="flowChartPredefinedProcess">
                <a:avLst/>
              </a:prstGeom>
              <a:solidFill>
                <a:srgbClr val="d5eb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3160" rIns="83160" tIns="41760" bIns="417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Look for other potential funders</a:t>
                </a:r>
                <a:endParaRPr b="0" lang="en-US" sz="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cxnSp>
            <p:nvCxnSpPr>
              <p:cNvPr id="243" name=""/>
              <p:cNvCxnSpPr/>
              <p:nvPr/>
            </p:nvCxnSpPr>
            <p:spPr>
              <a:xfrm>
                <a:off x="4928760" y="5342400"/>
                <a:ext cx="700200" cy="180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244" name=""/>
            <p:cNvGrpSpPr/>
            <p:nvPr/>
          </p:nvGrpSpPr>
          <p:grpSpPr>
            <a:xfrm>
              <a:off x="0" y="1498320"/>
              <a:ext cx="3106800" cy="4802760"/>
              <a:chOff x="0" y="1498320"/>
              <a:chExt cx="3106800" cy="4802760"/>
            </a:xfrm>
          </p:grpSpPr>
          <p:sp>
            <p:nvSpPr>
              <p:cNvPr id="245" name=""/>
              <p:cNvSpPr/>
              <p:nvPr/>
            </p:nvSpPr>
            <p:spPr>
              <a:xfrm>
                <a:off x="1843920" y="5462280"/>
                <a:ext cx="1188000" cy="472320"/>
              </a:xfrm>
              <a:prstGeom prst="flowChartProcess">
                <a:avLst/>
              </a:prstGeom>
              <a:solidFill>
                <a:srgbClr val="fff2b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ahoma"/>
                  </a:rPr>
                  <a:t>Research a new funding source</a:t>
                </a:r>
                <a:endParaRPr b="0" lang="en-US" sz="9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cxnSp>
            <p:nvCxnSpPr>
              <p:cNvPr id="246" name=""/>
              <p:cNvCxnSpPr/>
              <p:nvPr/>
            </p:nvCxnSpPr>
            <p:spPr>
              <a:xfrm>
                <a:off x="1169640" y="5702760"/>
                <a:ext cx="6742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47" name=""/>
              <p:cNvSpPr/>
              <p:nvPr/>
            </p:nvSpPr>
            <p:spPr>
              <a:xfrm>
                <a:off x="0" y="5114520"/>
                <a:ext cx="1198080" cy="1186560"/>
              </a:xfrm>
              <a:prstGeom prst="flowChartDecision">
                <a:avLst/>
              </a:prstGeom>
              <a:solidFill>
                <a:srgbClr val="cee1f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ahoma"/>
                  </a:rPr>
                  <a:t>Am I eligible to apply?</a:t>
                </a:r>
                <a:endParaRPr b="0" lang="en-US" sz="9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248" name=""/>
              <p:cNvGrpSpPr/>
              <p:nvPr/>
            </p:nvGrpSpPr>
            <p:grpSpPr>
              <a:xfrm>
                <a:off x="46800" y="1498320"/>
                <a:ext cx="3060000" cy="1465200"/>
                <a:chOff x="46800" y="1498320"/>
                <a:chExt cx="3060000" cy="146520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111960" y="2674080"/>
                  <a:ext cx="44892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Yes</a:t>
                  </a:r>
                  <a:endParaRPr b="0" lang="en-US" sz="10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917720" y="1855080"/>
                  <a:ext cx="1189080" cy="471240"/>
                </a:xfrm>
                <a:prstGeom prst="flowChartProcess">
                  <a:avLst/>
                </a:prstGeom>
                <a:solidFill>
                  <a:srgbClr val="fff2b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ahoma"/>
                    </a:rPr>
                    <a:t>Rethink your project.</a:t>
                  </a:r>
                  <a:endParaRPr b="0" lang="en-US" sz="9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46800" y="1498320"/>
                  <a:ext cx="1198080" cy="1185480"/>
                </a:xfrm>
                <a:prstGeom prst="flowChartDecision">
                  <a:avLst/>
                </a:prstGeom>
                <a:solidFill>
                  <a:srgbClr val="cee1f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ahoma"/>
                    </a:rPr>
                    <a:t>Do I have a worthy project? </a:t>
                  </a:r>
                  <a:endParaRPr b="0" lang="en-US" sz="9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cxnSp>
              <p:nvCxnSpPr>
                <p:cNvPr id="252" name=""/>
                <p:cNvCxnSpPr/>
                <p:nvPr/>
              </p:nvCxnSpPr>
              <p:spPr>
                <a:xfrm>
                  <a:off x="1244520" y="2095920"/>
                  <a:ext cx="67320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53" name=""/>
                <p:cNvSpPr/>
                <p:nvPr/>
              </p:nvSpPr>
              <p:spPr>
                <a:xfrm>
                  <a:off x="1281960" y="1883880"/>
                  <a:ext cx="35460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No</a:t>
                  </a:r>
                  <a:endParaRPr b="0" lang="en-US" sz="10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cxnSp>
              <p:nvCxnSpPr>
                <p:cNvPr id="254" name=""/>
                <p:cNvCxnSpPr/>
                <p:nvPr/>
              </p:nvCxnSpPr>
              <p:spPr>
                <a:xfrm>
                  <a:off x="644760" y="2683440"/>
                  <a:ext cx="1080" cy="2804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</p:grpSp>
          <p:sp>
            <p:nvSpPr>
              <p:cNvPr id="255" name=""/>
              <p:cNvSpPr/>
              <p:nvPr/>
            </p:nvSpPr>
            <p:spPr>
              <a:xfrm>
                <a:off x="1900080" y="3457800"/>
                <a:ext cx="1188360" cy="651960"/>
              </a:xfrm>
              <a:prstGeom prst="flowChartProcess">
                <a:avLst/>
              </a:prstGeom>
              <a:solidFill>
                <a:srgbClr val="fff2b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ahoma"/>
                  </a:rPr>
                  <a:t>Research a new funding source</a:t>
                </a:r>
                <a:endParaRPr b="0" lang="en-US" sz="9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7720" y="2963520"/>
                <a:ext cx="1198080" cy="1640520"/>
              </a:xfrm>
              <a:prstGeom prst="flowChartDecision">
                <a:avLst/>
              </a:prstGeom>
              <a:solidFill>
                <a:srgbClr val="cee1f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ahoma"/>
                  </a:rPr>
                  <a:t>Does my project match the funder's goals?</a:t>
                </a:r>
                <a:endParaRPr b="0" lang="en-US" sz="9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cxnSp>
            <p:nvCxnSpPr>
              <p:cNvPr id="257" name=""/>
              <p:cNvCxnSpPr/>
              <p:nvPr/>
            </p:nvCxnSpPr>
            <p:spPr>
              <a:xfrm>
                <a:off x="1225800" y="3790440"/>
                <a:ext cx="6742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58" name=""/>
              <p:cNvSpPr/>
              <p:nvPr/>
            </p:nvSpPr>
            <p:spPr>
              <a:xfrm>
                <a:off x="111960" y="4555440"/>
                <a:ext cx="45000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Yes</a:t>
                </a:r>
                <a:endParaRPr b="0" lang="en-US" sz="1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cxnSp>
            <p:nvCxnSpPr>
              <p:cNvPr id="259" name=""/>
              <p:cNvCxnSpPr>
                <a:stCxn id="256" idx="2"/>
                <a:endCxn id="247" idx="0"/>
              </p:cNvCxnSpPr>
              <p:nvPr/>
            </p:nvCxnSpPr>
            <p:spPr>
              <a:xfrm flipH="1">
                <a:off x="599040" y="4603680"/>
                <a:ext cx="28440" cy="5108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60" name=""/>
              <p:cNvSpPr/>
              <p:nvPr/>
            </p:nvSpPr>
            <p:spPr>
              <a:xfrm>
                <a:off x="1235160" y="3514320"/>
                <a:ext cx="352440" cy="24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o</a:t>
                </a:r>
                <a:endParaRPr b="0" lang="en-US" sz="1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235160" y="5366880"/>
                <a:ext cx="352440" cy="24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o</a:t>
                </a:r>
                <a:endParaRPr b="0" lang="en-US" sz="1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561240" y="6309720"/>
              <a:ext cx="0" cy="28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61240" y="6590880"/>
              <a:ext cx="292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3481920" y="1266840"/>
              <a:ext cx="0" cy="532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81920" y="1266840"/>
              <a:ext cx="44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457200" y="380880"/>
            <a:ext cx="2971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Grant Writing Flowchart</a:t>
            </a:r>
            <a:br>
              <a:rPr sz="2800"/>
            </a:b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Developed by Jane Cook</a:t>
            </a:r>
            <a:br>
              <a:rPr sz="1800"/>
            </a:b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Page 6 in handout</a:t>
            </a:r>
            <a:br>
              <a:rPr sz="1800"/>
            </a:b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Burning Questions???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2362320" y="1905120"/>
            <a:ext cx="39970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295280" y="304920"/>
            <a:ext cx="523260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2280" bIns="381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1311"/>
                </a:solidFill>
                <a:latin typeface="Arial"/>
                <a:ea typeface="Arial"/>
              </a:rPr>
              <a:t>K-W-L-H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ource:  </a:t>
            </a:r>
            <a:r>
              <a:rPr b="0" lang="en-US" sz="1200" spc="-1" strike="noStrike" u="sng">
                <a:solidFill>
                  <a:srgbClr val="f0b854"/>
                </a:solidFill>
                <a:uFillTx/>
                <a:latin typeface="Arial"/>
                <a:ea typeface="Times New Roman"/>
                <a:hlinkClick r:id="rId1"/>
              </a:rPr>
              <a:t>http://www.ncrel.org/sdrs/areas/issues/students/learning/lr1kwlh.htm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228600" y="2438280"/>
          <a:ext cx="7232760" cy="4119840"/>
        </p:xfrm>
        <a:graphic>
          <a:graphicData uri="http://schemas.openxmlformats.org/drawingml/2006/table">
            <a:tbl>
              <a:tblPr/>
              <a:tblGrid>
                <a:gridCol w="1752480"/>
                <a:gridCol w="1981440"/>
                <a:gridCol w="1752480"/>
                <a:gridCol w="17463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hat I Know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hat I Want to Find Out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hat I Learned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w Can I Learn More?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2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tegories of information I expect to use: 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>
            <a:off x="914400" y="1371600"/>
            <a:ext cx="60199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Reflect on why you’re here, what you already know and what you want to learn.  Write your reflections in the table on Page 2 in your handout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Guidelines for Writing Grant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-5544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Describe with evidence your need or problem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554400" indent="-5544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Describe in concrete, compelling language your solution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554400" indent="-55440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Reflect planning, research and vision throughout your proposal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554400" indent="-5544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Research grant funders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554400" indent="-55440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Do your goals and objectives match the grant funders'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Guidelines for Writing Grant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Be strategic and creative:  Target your proposal to grant funders’ mission; do not limit your funding sources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Establish a personal relationship with grant funder, if possible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Be diligent in attending to format details!  Practice true diligence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Guidelines for Writing Grant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nswer the questions you are asked.  State clearly and concisely your organization's needs and objectives. Write well; use proper grammar and correct spelling. Prepare an interesting, unique proposal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lways cover the following important criteria: project purpose, need, funds, evaluation (accountability and competence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Guidelines for Writing Grant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nswer these questions: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911160" indent="-4906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Who are you?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911160" indent="-4906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How do you qualify?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911160" indent="-4906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What do you want?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911160" indent="-4906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What problem will you address and how?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911160" indent="-4906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Who will benefit and how?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911160" indent="-49068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What specific objectives will you accomplish and how?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911160" indent="-49068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How will you measure your results?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911160" indent="-490680"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How does your funding request comply with the funder’s purpose, goals and objectives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Guidelines for Writing Grant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Demonstrate project logic and outcome, impact of funds, and support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lways follow the exact specifications of the funder application, Request for Proposals (RFPs) or guidelines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Guidelines for Writing Grant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Maintain contact with funder about the status, evaluation, and outcome of your proposal, after submission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Request feedback about your proposal, even when awarded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d47d"/>
                </a:solidFill>
                <a:latin typeface="Arial"/>
              </a:rPr>
              <a:t>Thinking Like a Grant Funder:</a:t>
            </a:r>
            <a:br>
              <a:rPr sz="2800"/>
            </a:br>
            <a:r>
              <a:rPr b="1" lang="en-US" sz="2800" spc="-1" strike="noStrike">
                <a:solidFill>
                  <a:srgbClr val="f7d47d"/>
                </a:solidFill>
                <a:latin typeface="Arial"/>
              </a:rPr>
              <a:t>Things to Consider Before Applying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Eligibility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Likelihood of Being Funded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Worthiness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Timeliness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Achievability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Support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Sustainability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0T16:44:23Z</dcterms:created>
  <dc:creator>jcook</dc:creator>
  <dc:description/>
  <dc:language>en-US</dc:language>
  <cp:lastModifiedBy>jcook</cp:lastModifiedBy>
  <dcterms:modified xsi:type="dcterms:W3CDTF">2008-10-16T16:45:59Z</dcterms:modified>
  <cp:revision>27</cp:revision>
  <dc:subject/>
  <dc:title>Grant Writing Flowchart Developed by Jane Cook </dc:title>
</cp:coreProperties>
</file>